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891-FA65-43A8-8593-E486B340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277-E646-4ECE-983E-55F48D2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22D-1F0D-4560-9646-0481E9D0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51F-ABEC-4CAB-95EB-53EF0D30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FED-86F2-4153-B8EF-DC3AA15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226-2403-4E96-8DA7-D1638A4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D87-D35C-4FEB-82D2-9660037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BFB-BBC1-4F5A-A5C3-3B9F03E7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20A-EFB2-46A7-A9C9-EFD8F0B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82D-F38A-41C7-A2AD-C66CD4D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5B6-B271-409F-9A75-AE3028C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D55-D761-4083-B07D-6A971B6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2F5-5267-42E1-A440-FDC5D65D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&#1086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овых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обенности цветкового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ветко́вые расте́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ры́тосеменны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личительной особенностью которых является наличи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цвет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Magnolia.jpg"/>
          <p:cNvPicPr/>
          <p:nvPr/>
        </p:nvPicPr>
        <p:blipFill>
          <a:blip r:embed="rId2"/>
          <a:stretch/>
        </p:blipFill>
        <p:spPr>
          <a:xfrm>
            <a:off x="0" y="3716280"/>
            <a:ext cx="276876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Gcy;&amp;rcy;&amp;ocy;&amp;zcy;&amp;dcy;&amp;softcy; &amp;yacy;&amp;bcy;&amp;lcy;&amp;ocy;&amp;kcy;"/>
          <p:cNvPicPr/>
          <p:nvPr/>
        </p:nvPicPr>
        <p:blipFill>
          <a:blip r:embed="rId3"/>
          <a:stretch/>
        </p:blipFill>
        <p:spPr>
          <a:xfrm>
            <a:off x="5940360" y="36450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цветковог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бег-это стебель с листьями и п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Vcy;&amp;iecy;&amp;gcy;&amp;iecy;&amp;tcy;&amp;acy;&amp;tcy;&amp;icy;&amp;vcy;&amp;ncy;&amp;ycy;&amp;iecy; &amp;ocy;&amp;rcy;&amp;gcy;&amp;acy;&amp;ncy;&amp;ycy; &amp;vcy;&amp;ycy;&amp;scy;&amp;shcy;&amp;icy;&amp;khcy; &amp;rcy;&amp;acy;&amp;scy;&amp;tcy;&amp;iecy;&amp;ncy;&amp;icy;&amp;jcy;"/>
          <p:cNvPicPr/>
          <p:nvPr/>
        </p:nvPicPr>
        <p:blipFill>
          <a:blip r:embed="rId1"/>
          <a:stretch/>
        </p:blipFill>
        <p:spPr>
          <a:xfrm>
            <a:off x="3492360" y="2400480"/>
            <a:ext cx="3934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разных растений цветы  разнообр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размер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 особенностя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428652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1010801a.JPG"/>
          <p:cNvPicPr/>
          <p:nvPr/>
        </p:nvPicPr>
        <p:blipFill>
          <a:blip r:embed="rId2"/>
          <a:stretch/>
        </p:blipFill>
        <p:spPr>
          <a:xfrm>
            <a:off x="6300720" y="13413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ки одиночные и собранные в соцве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&amp;Scy;&amp;iecy;&amp;mcy;&amp;iecy;&amp;jcy;&amp;scy;&amp;tcy;&amp;vcy;&amp;ocy; &amp;mcy;&amp;ocy;&amp;lcy;&amp;ocy;&amp;chcy;&amp;acy;&amp;jcy;&amp;ncy;&amp;ycy;&amp;khcy;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&amp;rcy;&amp;iecy;&amp;dcy;&amp;kcy;&amp;icy;&amp;iecy; &amp;rcy;&amp;acy;&amp;scy;&amp;tcy;&amp;iecy;&amp;ncy;&amp;icy;&amp;y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468360" y="3429000"/>
            <a:ext cx="30430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&amp;Rcy;&amp;ocy;&amp;mcy;&amp;acy;&amp;shcy;&amp;kcy;&amp;acy; &amp;acy;&amp;pcy;&amp;tcy;&amp;iecy;&amp;chcy;&amp;ncy;&amp;acy;&amp;yacy;"/>
          <p:cNvPicPr/>
          <p:nvPr/>
        </p:nvPicPr>
        <p:blipFill>
          <a:blip r:embed="rId3"/>
          <a:stretch/>
        </p:blipFill>
        <p:spPr>
          <a:xfrm>
            <a:off x="3348000" y="2565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&amp;Scy;&amp;ocy;&amp;tscy;&amp;vcy;&amp;iecy;&amp;tcy;&amp;icy;&amp;yacy;-&amp;shcy;&amp;acy;&amp;rcy;&amp;ycy;"/>
          <p:cNvPicPr/>
          <p:nvPr/>
        </p:nvPicPr>
        <p:blipFill>
          <a:blip r:embed="rId4"/>
          <a:stretch/>
        </p:blipFill>
        <p:spPr>
          <a:xfrm>
            <a:off x="6037200" y="1773360"/>
            <a:ext cx="3106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1773360"/>
            <a:ext cx="3990960" cy="39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50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м отличаются цветковые растения от всех оста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ачем растению  нужен цв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 чего образуется пл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7:08:26Z</dcterms:created>
  <dc:creator>user</dc:creator>
  <dc:description/>
  <dc:language>en-US</dc:language>
  <cp:lastModifiedBy>user</cp:lastModifiedBy>
  <dcterms:modified xsi:type="dcterms:W3CDTF">2013-05-06T09:38:13Z</dcterms:modified>
  <cp:revision>6</cp:revision>
  <dc:subject/>
  <dc:title>Строение цветковых растений</dc:title>
</cp:coreProperties>
</file>